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Measuring Amounts of Vitamin C in Apple Jui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h Bury, Grade 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320480" y="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: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6972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rtmouth College. (n.d.).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hemLab: Titrat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. Retrieved from Dartmouth College website: http://www.dartmouth.edu/‌~chemlab/‌techniques/‌titration.htm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lsievier Inc. (2008). Vitamin C. I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The Vitamins: Fundamental Aspects in Nutrition and Health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pp. 236-241). Burlington: Elsevier Academic Pres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uch, I. (2006+). Chapter 23: Acids and Bases. In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The Complete Idiot’s Guide to Chemistry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2nd ed., pp. 258-259). Marie Butler-Knight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elmenstine, A. M., Ph.D. (n.d.).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Vitamin C Determination by Iodine Titrat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. Retrieved from About.com website: http://chemistry.about.com/‌od/‌demonstrationsexperiments/‌ss/‌vitctitration.ht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lson, A. (2007, October 11).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Which Orange Juice Has the Most Vitamin C?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Retrieved from Science Buddies website: http://sciencebuddies.com/‌science-fair-projects/‌project_ideas/‌FoodSci_p009.shtml?fave=no&amp;isb=cmlkOjQ1MzQzODcsc2lkOjAscDozLGlhOkZvb2RTY2k&amp;from=TSW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6440" y="2666520"/>
            <a:ext cx="12065040" cy="388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anks!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1397160" y="1599840"/>
            <a:ext cx="10464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itration to find out which type of apple juice (from concentrate, not from concentrate) contains the most vitamin C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why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how much vitamin c is in dif. Types of apple juic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1854360" y="914400"/>
            <a:ext cx="9753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roble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63280" y="304560"/>
            <a:ext cx="11055240" cy="2090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search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701360" y="2514240"/>
            <a:ext cx="9829800" cy="441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ration- method that uses a solution with a known concentration to find the concentration of a second soluti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68560" y="2768400"/>
            <a:ext cx="104644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wo different types of apple juice differ in ingredients and/or type, then they will have different amounts of Vitamin C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31000"/>
          </a:bodyPr>
          <a:p>
            <a:pPr marL="275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Juice (20 mL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75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Juice from Concentrate (20 mL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75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C Tablets (125 mg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75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lled Water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75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dine Solution (50 mL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275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Starch (.125 g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variab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44160" y="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34000"/>
          </a:bodyPr>
          <a:p>
            <a:pPr marL="302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Iodine and distilled water were mixed to create a 25% Iodine solution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2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rch indicator solution was made by adding .125 g of starch to 25 mL of distilled water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2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tamin C standard solution was made by mixing 125 mg of vitamin C with 50 mL of distilled water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2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ndard vitamin C solution was titrated by adding 3 drops of the starch indicator and measuring the amount of Iodine solution needed to turn the vitamin C solution black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2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20 mL of apple juice was titrated.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2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at, 40 mL of apple juice from concentrate was mixed with 40 mL of distilled water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2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L was titrated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2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31640" y="2705040"/>
            <a:ext cx="6437520" cy="585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3" name=""/>
          <p:cNvGraphicFramePr/>
          <p:nvPr/>
        </p:nvGraphicFramePr>
        <p:xfrm>
          <a:off x="7480440" y="4229280"/>
          <a:ext cx="4184640" cy="2539440"/>
        </p:xfrm>
        <a:graphic>
          <a:graphicData uri="http://schemas.openxmlformats.org/drawingml/2006/table">
            <a:tbl>
              <a:tblPr/>
              <a:tblGrid>
                <a:gridCol w="1676520"/>
                <a:gridCol w="2508120"/>
              </a:tblGrid>
              <a:tr h="846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Vit. C Solu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0.06 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72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pple Ju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0.3 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ncent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0.1 M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>
            <a:off x="7988400" y="3251160"/>
            <a:ext cx="31748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Amt. of Vit. 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320480" y="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3000"/>
          </a:bodyPr>
          <a:p>
            <a:pPr marL="38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wo different types of apple juice differ in ingredients and/or type, then they will have different amounts of Vitamin C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8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ypothesis was supported: the 2 different types of apple juice contained different amounts of vitamin C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8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ple juice (not from concentrate) contained the most vitamin C. The vitamin C solution contained the least vitamin C. why?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3819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can I carry ex. further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dcushing</cp:lastModifiedBy>
  <dcterms:modified xsi:type="dcterms:W3CDTF">2010-02-23T16:36:15Z</dcterms:modified>
  <cp:revision>2</cp:revision>
  <dc:subject/>
  <dc:title>Measuring Amounts of Vitamin C in Apple Juice</dc:title>
</cp:coreProperties>
</file>